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586E-A25D-438E-BF88-A2AB8501A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2F90-CB45-4E80-85BF-155069D6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75DB-7763-48C4-AC0B-2A3BA9AA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33EF-0441-4B96-9D70-C6763AF5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0231-3425-4B29-9BF9-CFB19AC7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2BA-9FF0-49BE-99CB-063BB0F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840-FF89-4383-9FF5-3374208D3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615-6C76-476F-953C-5CA6A26D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028-2B70-4776-B41F-87546CC9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5B8-C4F1-411D-BD13-B0341CC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B27-7AAA-4001-B788-3B9216EB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207C-64EF-430B-B166-6EC0947E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66D0-27D9-455D-9E37-932E0C00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838080" y="87480"/>
            <a:ext cx="8077320" cy="6618240"/>
            <a:chOff x="838080" y="87480"/>
            <a:chExt cx="8077320" cy="6618240"/>
          </a:xfrm>
        </p:grpSpPr>
        <p:pic>
          <p:nvPicPr>
            <p:cNvPr id="42" name="Picture 2" descr="A picture containing text, electronics&#10;&#10;Description automatically generated"/>
            <p:cNvPicPr/>
            <p:nvPr/>
          </p:nvPicPr>
          <p:blipFill>
            <a:blip r:embed="rId1"/>
            <a:stretch/>
          </p:blipFill>
          <p:spPr>
            <a:xfrm>
              <a:off x="884160" y="2909880"/>
              <a:ext cx="3721320" cy="182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TextBox 8"/>
            <p:cNvSpPr/>
            <p:nvPr/>
          </p:nvSpPr>
          <p:spPr>
            <a:xfrm rot="16200000">
              <a:off x="1547280" y="2629440"/>
              <a:ext cx="49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TextBox 9"/>
            <p:cNvSpPr/>
            <p:nvPr/>
          </p:nvSpPr>
          <p:spPr>
            <a:xfrm rot="16200000">
              <a:off x="1701720" y="2553480"/>
              <a:ext cx="64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10"/>
            <p:cNvSpPr/>
            <p:nvPr/>
          </p:nvSpPr>
          <p:spPr>
            <a:xfrm rot="16200000">
              <a:off x="1934640" y="2551680"/>
              <a:ext cx="65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11" descr="A picture containing text&#10;&#10;Description automatically generated"/>
            <p:cNvPicPr/>
            <p:nvPr/>
          </p:nvPicPr>
          <p:blipFill>
            <a:blip r:embed="rId2"/>
            <a:stretch/>
          </p:blipFill>
          <p:spPr>
            <a:xfrm>
              <a:off x="838080" y="4756320"/>
              <a:ext cx="3648240" cy="19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2" descr="A picture containing text, whiteboard&#10;&#10;Description automatically generated"/>
            <p:cNvPicPr/>
            <p:nvPr/>
          </p:nvPicPr>
          <p:blipFill>
            <a:blip r:embed="rId3"/>
            <a:stretch/>
          </p:blipFill>
          <p:spPr>
            <a:xfrm>
              <a:off x="4637160" y="2752560"/>
              <a:ext cx="427824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17" descr="A picture containing text, white&#10;&#10;Description automatically generated"/>
            <p:cNvPicPr/>
            <p:nvPr/>
          </p:nvPicPr>
          <p:blipFill>
            <a:blip r:embed="rId4"/>
            <a:stretch/>
          </p:blipFill>
          <p:spPr>
            <a:xfrm>
              <a:off x="4851360" y="4853160"/>
              <a:ext cx="391320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9"/>
            <p:cNvSpPr/>
            <p:nvPr/>
          </p:nvSpPr>
          <p:spPr>
            <a:xfrm rot="16200000">
              <a:off x="6696360" y="2427120"/>
              <a:ext cx="48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E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Box 10"/>
            <p:cNvSpPr/>
            <p:nvPr/>
          </p:nvSpPr>
          <p:spPr>
            <a:xfrm rot="16200000">
              <a:off x="6817320" y="2354400"/>
              <a:ext cx="63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Box 11"/>
            <p:cNvSpPr/>
            <p:nvPr/>
          </p:nvSpPr>
          <p:spPr>
            <a:xfrm rot="16200000">
              <a:off x="7042320" y="2350440"/>
              <a:ext cx="64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RN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57440" y="327816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657440" y="626760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37400" y="3311640"/>
              <a:ext cx="685800" cy="3045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737400" y="6172200"/>
              <a:ext cx="68580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675800" y="205740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75320" y="1905120"/>
              <a:ext cx="134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K293-51 CA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2880" y="331164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15120" y="63007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83400" y="87480"/>
              <a:ext cx="469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ll unedited gel of Figure 5E with labels (source data 2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07600" y="3265560"/>
              <a:ext cx="47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929840" y="617868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089160" y="430200"/>
              <a:ext cx="2963880" cy="1553400"/>
              <a:chOff x="3089160" y="430200"/>
              <a:chExt cx="2963880" cy="1553400"/>
            </a:xfrm>
          </p:grpSpPr>
          <p:pic>
            <p:nvPicPr>
              <p:cNvPr id="64" name="Picture 77" descr="A picture containing floor&#10;&#10;Description automatically generated"/>
              <p:cNvPicPr/>
              <p:nvPr/>
            </p:nvPicPr>
            <p:blipFill>
              <a:blip r:embed="rId5"/>
              <a:srcRect l="10018" t="17415" r="10548" b="19692"/>
              <a:stretch/>
            </p:blipFill>
            <p:spPr>
              <a:xfrm>
                <a:off x="3549600" y="1362240"/>
                <a:ext cx="900000" cy="2840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5" name="Picture 79" descr="A picture containing floor&#10;&#10;Description automatically generated"/>
              <p:cNvPicPr/>
              <p:nvPr/>
            </p:nvPicPr>
            <p:blipFill>
              <a:blip r:embed="rId6"/>
              <a:srcRect l="0" t="29185" r="17407" b="24157"/>
              <a:stretch/>
            </p:blipFill>
            <p:spPr>
              <a:xfrm>
                <a:off x="4495680" y="1360440"/>
                <a:ext cx="898560" cy="2858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6" name="TextBox 80"/>
              <p:cNvSpPr/>
              <p:nvPr/>
            </p:nvSpPr>
            <p:spPr>
              <a:xfrm>
                <a:off x="3676680" y="1752480"/>
                <a:ext cx="6793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TextBox 81"/>
              <p:cNvSpPr/>
              <p:nvPr/>
            </p:nvSpPr>
            <p:spPr>
              <a:xfrm>
                <a:off x="4381560" y="1751040"/>
                <a:ext cx="1125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EK293-51 CA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82"/>
              <p:cNvSpPr/>
              <p:nvPr/>
            </p:nvSpPr>
            <p:spPr>
              <a:xfrm>
                <a:off x="5489640" y="140508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4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TextBox 83"/>
              <p:cNvSpPr/>
              <p:nvPr/>
            </p:nvSpPr>
            <p:spPr>
              <a:xfrm>
                <a:off x="5489640" y="1192320"/>
                <a:ext cx="411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300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Straight Connector 84"/>
              <p:cNvSpPr/>
              <p:nvPr/>
            </p:nvSpPr>
            <p:spPr>
              <a:xfrm>
                <a:off x="5479920" y="150192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94"/>
              <p:cNvSpPr/>
              <p:nvPr/>
            </p:nvSpPr>
            <p:spPr>
              <a:xfrm>
                <a:off x="3109680" y="1398600"/>
                <a:ext cx="4590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Acti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" name="Picture 76" descr="A close up of a person's eyes&#10;&#10;Description automatically generated with medium confidence"/>
              <p:cNvPicPr/>
              <p:nvPr/>
            </p:nvPicPr>
            <p:blipFill>
              <a:blip r:embed="rId7"/>
              <a:srcRect l="2869" t="18161" r="2194" b="23784"/>
              <a:stretch/>
            </p:blipFill>
            <p:spPr>
              <a:xfrm>
                <a:off x="3549600" y="1066680"/>
                <a:ext cx="900000" cy="257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73" name="Picture 78" descr="A close up of a person's eyes&#10;&#10;Description automatically generated with medium confidence"/>
              <p:cNvPicPr/>
              <p:nvPr/>
            </p:nvPicPr>
            <p:blipFill>
              <a:blip r:embed="rId8"/>
              <a:srcRect l="11434" t="19195" r="10559" b="13831"/>
              <a:stretch/>
            </p:blipFill>
            <p:spPr>
              <a:xfrm>
                <a:off x="4495680" y="1066680"/>
                <a:ext cx="898560" cy="2606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74" name="Straight Connector 85"/>
              <p:cNvSpPr/>
              <p:nvPr/>
            </p:nvSpPr>
            <p:spPr>
              <a:xfrm>
                <a:off x="5479920" y="1306440"/>
                <a:ext cx="8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TextBox 86"/>
              <p:cNvSpPr/>
              <p:nvPr/>
            </p:nvSpPr>
            <p:spPr>
              <a:xfrm>
                <a:off x="5298840" y="836640"/>
                <a:ext cx="754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Size (kDa)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87"/>
              <p:cNvSpPr/>
              <p:nvPr/>
            </p:nvSpPr>
            <p:spPr>
              <a:xfrm rot="16200000">
                <a:off x="3486240" y="69264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TextBox 88"/>
              <p:cNvSpPr/>
              <p:nvPr/>
            </p:nvSpPr>
            <p:spPr>
              <a:xfrm rot="16200000">
                <a:off x="3708000" y="652680"/>
                <a:ext cx="596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TextBox 89"/>
              <p:cNvSpPr/>
              <p:nvPr/>
            </p:nvSpPr>
            <p:spPr>
              <a:xfrm rot="16200000">
                <a:off x="3952440" y="63360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90"/>
              <p:cNvSpPr/>
              <p:nvPr/>
            </p:nvSpPr>
            <p:spPr>
              <a:xfrm rot="16200000">
                <a:off x="4427640" y="691200"/>
                <a:ext cx="522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EV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91"/>
              <p:cNvSpPr/>
              <p:nvPr/>
            </p:nvSpPr>
            <p:spPr>
              <a:xfrm rot="16200000">
                <a:off x="463032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1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92"/>
              <p:cNvSpPr/>
              <p:nvPr/>
            </p:nvSpPr>
            <p:spPr>
              <a:xfrm rot="16200000">
                <a:off x="4881240" y="632160"/>
                <a:ext cx="6350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gRNA 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TextBox 93"/>
              <p:cNvSpPr/>
              <p:nvPr/>
            </p:nvSpPr>
            <p:spPr>
              <a:xfrm>
                <a:off x="3089160" y="1096920"/>
                <a:ext cx="479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  <a:ea typeface="맑은 고딕"/>
                  </a:rPr>
                  <a:t>HT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2134800" y="114624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gure 5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5-14T16:33:43Z</dcterms:created>
  <dc:creator>User</dc:creator>
  <dc:description/>
  <dc:language>en-US</dc:language>
  <cp:lastModifiedBy>User</cp:lastModifiedBy>
  <dcterms:modified xsi:type="dcterms:W3CDTF">2024-05-20T18:53:48Z</dcterms:modified>
  <cp:revision>7</cp:revision>
  <dc:subject/>
  <dc:title>Slide 1</dc:title>
</cp:coreProperties>
</file>